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B21F-BF05-4E1D-A8E4-85205FC27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BEA5-8913-4BB1-8FE3-C4E6516E3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50F5-B8D9-49B0-949C-D3CC589FC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00D2B-26FE-4326-8EC3-E1C56DF7F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92BE-0D7C-45D5-B4F4-B19A6DE8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58E4-31F4-4E35-8E21-4D3B4EF29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6547-1F6E-4166-82E9-E7F296C6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CCFAE-506A-4170-8BFE-24DDEDF6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0C69-BFDD-46D1-8C00-D645B73B6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1CD4-B0CE-48FA-B6ED-D021B34B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6800-00ED-46D5-AA2D-F0C015CD7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3E88-AF30-43D4-B99C-60747BE15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824F6-27D9-4E69-9A98-1FE41897322C}" type="slidenum">
              <a:rPr b="0" lang="sr-Latn-C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1547640" y="0"/>
            <a:ext cx="6054840" cy="1052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нтегрисане ак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демске студије фармације</a:t>
            </a:r>
            <a:br>
              <a:rPr sz="2000"/>
            </a:b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оцијална фармација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Г12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Comic Sans MS"/>
              </a:rPr>
              <a:t>11. наставна неде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684360" y="2852640"/>
            <a:ext cx="7850160" cy="23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Регулаторни прописи у вези лекова и медицинских средстава у Србији. 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3200" spc="-1" strike="noStrike">
                <a:solidFill>
                  <a:srgbClr val="000000"/>
                </a:solidFill>
                <a:latin typeface="Comic Sans MS"/>
                <a:ea typeface="Calibri"/>
              </a:rPr>
              <a:t>Добијање дозволе за лек од стране Агенције за лекове и медицинска средства Србије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1371600" y="5715000"/>
            <a:ext cx="6400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000000"/>
                </a:solidFill>
                <a:latin typeface="Comic Sans MS"/>
              </a:rPr>
              <a:t>проф</a:t>
            </a: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. др Срђан Стефановић</a:t>
            </a:r>
            <a:endParaRPr b="1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Магистрални и галенски 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Магистрални ле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је лек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израђен у апотеци по рецепту (формули) за одређеног пацијент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односно корис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Галенски ле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је лек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израђен на основу важећих фармакопеја или важећих магистралних формула у галенској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лабораториј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и намењен је за пацијенте апотеке, односно друге здравствене установе, односно другог облик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здравствене службе (приватна пракса)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када не постоји или није доступан лек за који је издата дозвол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за 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419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Comic Sans MS"/>
              </a:rPr>
              <a:t>Издавање дозволе за стављање у промет лека за хуману употреб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Основни пропис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447920"/>
            <a:ext cx="838188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Закон о лековима и медицинским средствима Републике Србиј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2800"/>
            </a:br>
            <a:r>
              <a:rPr b="0" lang="sr-CS" sz="1600" spc="-1" strike="noStrike">
                <a:solidFill>
                  <a:srgbClr val="000000"/>
                </a:solidFill>
                <a:latin typeface="Comic Sans MS"/>
              </a:rPr>
              <a:t>Службени гласник РС, бр. 30/2010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107/1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илник о садржају захтева и документације, као и начину добијања дозволе за стављање лека у промет</a:t>
            </a:r>
            <a:r>
              <a:rPr b="1" lang="ru-RU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ужбени гласник РС, бр. 30/2012, бр. 72/2018 и бр. 94/2018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илник о садржају дозволе за стављање лека у промет 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 Службени гласник РС, бр. 30/2012, бр. 94/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 algn="ctr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Правилник о условима, садржају документације и начину одобрења измене или допуне дозволе за стављање лека у промет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lang="ru-RU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mic Sans MS"/>
              </a:rPr>
              <a:t>Службени гласник </a:t>
            </a:r>
            <a:r>
              <a:rPr b="0" lang="sr-RS" sz="1600" spc="-1" strike="noStrike">
                <a:solidFill>
                  <a:srgbClr val="000000"/>
                </a:solidFill>
                <a:latin typeface="Comic Sans MS"/>
              </a:rPr>
              <a:t>бр. 30/201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112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5"/>
          <p:cNvSpPr/>
          <p:nvPr/>
        </p:nvSpPr>
        <p:spPr>
          <a:xfrm rot="10800000">
            <a:off x="4495680" y="2590920"/>
            <a:ext cx="486000" cy="838080"/>
          </a:xfrm>
          <a:prstGeom prst="upArrow">
            <a:avLst>
              <a:gd name="adj1" fmla="val 50000"/>
              <a:gd name="adj2" fmla="val 5021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6"/>
          <p:cNvSpPr/>
          <p:nvPr/>
        </p:nvSpPr>
        <p:spPr>
          <a:xfrm>
            <a:off x="3733920" y="2590920"/>
            <a:ext cx="485640" cy="838080"/>
          </a:xfrm>
          <a:prstGeom prst="downArrow">
            <a:avLst>
              <a:gd name="adj1" fmla="val 50000"/>
              <a:gd name="adj2" fmla="val 502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7"/>
          <p:cNvSpPr/>
          <p:nvPr/>
        </p:nvSpPr>
        <p:spPr>
          <a:xfrm rot="10800000">
            <a:off x="5257440" y="2590920"/>
            <a:ext cx="485640" cy="838080"/>
          </a:xfrm>
          <a:prstGeom prst="upArrow">
            <a:avLst>
              <a:gd name="adj1" fmla="val 50000"/>
              <a:gd name="adj2" fmla="val 502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Дозвола за стављање лека у проме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окумент који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издаје А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којим се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потврђује да су сви захтеви за стављање лека у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промет испуњен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и да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лек може бити у пром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Издаје се на период од 5 го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иноним – регистрација 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сим што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издаје дозволе за лек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АЛИМС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је дужна и д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одлучује о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измени и допун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обнови и пренос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као и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престанку важења дозв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Основни услов за издавање дозволе за 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Да би лек добио дозволу за лек, он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мора бити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испита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у складу са смерницама добре пракс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фармацеутски (фармацеутско-хемијско-биолошки)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– 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смернице Д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фармаколошко-токсиколошки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смернице ДЛП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клинички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– </a:t>
            </a:r>
            <a:r>
              <a:rPr b="0" i="1" lang="sr-CS" sz="2400" spc="-1" strike="noStrike">
                <a:solidFill>
                  <a:srgbClr val="000000"/>
                </a:solidFill>
                <a:latin typeface="Comic Sans MS"/>
              </a:rPr>
              <a:t>смернице ДК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Лек може да се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испитује и пошто је за њега издата дозвол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ради добијања допунских подата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односилац захтева за издавање дозволе за 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роизвођач лек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који има дозволу за производњу у Срб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аступник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или представник иностраног произвођач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који има седиште у Срб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аступник иностраног правног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лица ко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није произвођач, ал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је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носилац дозволе за лек у земљама Европске уније или у земљама које имају исте захтеве за издавање дозволе з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ле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који има седиште у Срб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равно лиц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са седиштем у Србији на које је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произвођач пренео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дозволу за ле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односно коме је дао право на стицање својства носиоца дозволе за лек из свог производног прог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односилац захтева за издавање дозволе за 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Предлагач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подносилац захтева)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мора да има одговорно лиц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лекар, фармацеут, стоматолог) 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фармаковигилан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окументацију у поступку добијања, измене, допуне и обнављања дозв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аступник иностраног правног лиц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или правно лице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у Србији на које је произвођач пренео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дозволу за лек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мора да има и лице одговорно за пуштање серије лека у пром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Поступак за добијање дозволе за 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Дозвола за лек може се добити на основу </a:t>
            </a: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потпун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, односно </a:t>
            </a: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скраћене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документ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Дозвола за лек може се добити и </a:t>
            </a: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под посебним условима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ако </a:t>
            </a:r>
            <a:r>
              <a:rPr b="1" lang="sr-Latn-CS" sz="3200" spc="-1" strike="noStrike">
                <a:solidFill>
                  <a:srgbClr val="000000"/>
                </a:solidFill>
                <a:latin typeface="Comic Sans MS"/>
              </a:rPr>
              <a:t>лек има дозволу по централизованом поступку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у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земљама Е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82296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Поступак за добијање дозволе с потпуном документацијом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 (референтни или оригинални лек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ХТЕВ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за добијање дозвол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ропратно писмо за добијање дозв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спуњен образац захтева за добијање дозвол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за сваки фармацеутски облик, јачину лека и паковањ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окументациј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о леку прописа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правилни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оказ да су плаћене прописане надокнад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Уз захтев за издавање дозволе за лек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достављају се и узорци лека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ади провере контроле квалит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133720"/>
            <a:ext cx="822960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000000"/>
                </a:solidFill>
                <a:latin typeface="Comic Sans MS"/>
              </a:rPr>
              <a:t>Закон о лековима и медицинским средствима Републике Србије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Неопходна ДОКУМЕНТАЦИЈА о ле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 хумане лекове подноси се у формату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Општег техничког документ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TD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досије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Европски формат (Европски досије) - за ветеринарски или ветеринарски имунолошки 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CTD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досиј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: 4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осебн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дела који се односе на опште стандардне захтеве са документацијом 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пецифичне захтеве са документацијом за одређене групе лекова у односу н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њихове особине и порекло активне супстан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Неопходна ДОКУМЕНТ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дминистративн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пода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назив лека, INN, генерич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о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име или хе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јск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формулу ак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вн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супс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н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фармацеутски облик и јачину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редлог сажетка карактеристика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редложено упутство за ле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написано разумљивим језиком за пацијента)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назив и адрес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предлагача (подносиоца захте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назив и адресу произвођача, места производње и пуштања серије лек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у пром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69840" indent="-334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оказ да произвођач има дозволу за производњ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Неопходна ДОКУМЕНТ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дминистративн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пода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редлог текста за унутрашње 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пољне паковањ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оказ да лек има дозволу за лек, односно да је у поступку добијања дозволе за лек у земљи порекла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као и да се налази на тржишту, односно разлоге његовог непуштања у промет у тој земљ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писак земаља у којима ле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има дозвол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ертификат о Доброј произвођачкој пракс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издаје Министарство здравља)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односно одговарајући сертификат земље 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или друге земље која има исте или сличне захтеве 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огледу 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Неопходна ДОКУМЕНТ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506520" indent="-5065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Ф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армацеутско-хемијско-биолошк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пода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94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квалитатив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и квантитатив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под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о саставу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94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технолошки поступак израде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94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контр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квалитета свих улазних сиров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94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контр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квалитета у процес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роизвод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94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контрол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квалитета л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94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тудије стабил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8280" indent="-2941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од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о процени безбедности лека по животн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реди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Неопходна ДОКУМЕНТ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Ф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армаколошко-токсиколошк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и (претклинички)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пода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ци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фармакодинамс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и фармакокинетич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особи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токсичност лек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утица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лек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на репродуктивне функциј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мбрион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,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фет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или перинат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токсичн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мутагеност и канцероге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потенција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лок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одношљи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Неопходна ДОКУМЕНТАЦИЈ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линичк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пода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ц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опш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под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о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линичком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испитивању, о извођењу испитивања,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резулта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испит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клиничко-фармаколош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под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од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о биолошкој расположивости или о биолошкој еквиваленцији када је т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отреб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од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о клиничкој безбедности и ефикасности лек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окументац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о ванредним догађајима у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клиничком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испитивању 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о искуствима добијеним после издавања дозволе за лек у другим земљ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7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опходна документација – лек са информацијом о пристанк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ек истог квалитативног и квантитативног састава у погледу активних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упстанци и истог фармацеутског облика за који се у поступку добијања дозволе за лек користи документација 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квалитету, безбедности и ефикасности лека који има дозволу у Србији, уз писмени пристанак носиоц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озв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ема Закону о лековима и медицинским средствима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матра се леком с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потпуном документ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опходна документација – лек са фиксном комбинацијом активних супстанц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ек садржи фиксну комбинацију активних супстанци која пре издавања дозволе за лек није употребљена у терапијске сврхе, при чему свака поједина активна супстанца улази у састав лека који је добио дозволу у Србији или у земљама Е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редлагач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је дужан да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достави резултате нових претклиничких или нових клиничких 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који се односе на дату комбинацију активних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упстанци, с тим да се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не морају доставити стручне референце о свакој појединачној активној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Неопходна документација- лек са добро познатом употребом активне супста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ек чија је активна супстанца добро позната, њена ефикасност доказана и безбедност на прихватљивом нивоу, а који се употребљава најмање 10 година као лек у Е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редлагач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није дужан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да достави податке претклиничких и клиничких испитивањ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већ може умест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опствених података да достави податке из литера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Неопходна документација о лек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У поступку издавања дозволе 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може да тражи и друге податке значајне за добијање дозволе за 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Такође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МС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може д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траж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да надлежно министарство изврш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инспекцијски надзор над производњом лека за који је поднет захтев за издавањ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изме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или допу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односно обнову дозв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Основне одредб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Овим законом уређују с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услови и поступак издавања дозволе за стављање лека у проме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упис лекова 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регистре које води Агенција за лекове и медицинска средства Срб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АЛИМ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роизводња и промет лекова и медицинских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редстава и надзор у овим областим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рад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МС,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руга питања значајна з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област лекова и медицинских средста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Поступак за добијање дозволе с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скараћеном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документациј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Лекови за које се издаје дозвола са скраћеном докуметацијом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70240" indent="-5702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Генерички л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71360" indent="-388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ек који има исти квалитативни и квантитативни састав активних супстанци и исти фармацеутски облик као и референтни (оригинални) лек и чија је биолошка еквиваленција* у односу на референтни лек доказана одговарајућим испитивањима биолошке расположив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71360" indent="-388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 сме се значајно разликовати по ефикасности и безбедности у односу на референтни 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02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70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omic Sans MS"/>
              </a:rPr>
              <a:t>* Биоеквиваленција: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поступак којим се утврђује да биолошке расположивости два лека који су фармацеутски еквиваленти, односно фармацеутске алтернативе, примењена у истој дози показују такав степен сличности да је њихово дејство у односу на ефикасност и безбедност суштински ис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Лекови за које се издаје дозвола са скраћеном докуметациј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Генерички хибридни л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Генерички лек с мешовитим подацима у документацији о безбедности и ефикас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ек који не одговара у потпуности дефиницији генеричког лека, односно за који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ије могуће доказати биолошку еквиваленцију испитивањима биолошке расположивост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односно у случају промене једне или више активних супстанци, терапијских индикација, јачине, фармацеутског облика или начина примене у односу на референтни 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Лекови за које се издаје дозвола са скраћеном докуметациј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romanU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Биолошки сличан ле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000000"/>
                </a:solidFill>
                <a:latin typeface="Comic Sans MS"/>
              </a:rPr>
              <a:t>Биолошки ле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: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за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категоризацију и контролу квалитета неопходна физичко-хемијско-биолошка испитивања, као и опис производног процеса и његова контр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25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имунолошки леков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(вакцине, серуми, токсини за Дг, алергени),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лекови из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хумане крви и плазме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хиперимуни имуноглобулин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албумини, фактори коагулације),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лекови за напредне терапије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(генска терапија, терапија соматским ћелијама, лекови добијени биоинжињерингом)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и д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Биолошки сличан ле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је лек биолошког порекла сличан референтном леку биолошког порекла који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не испуњава услове за генерички лек у односу на разлике у сировинама и разлике у процесима израд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у односу на референтни лек биолошког порек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Захтев за издавање дозволе за скраћеном документациј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 ГЕНЕРИЧКИ ЛЕК: 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место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опствених претклиничких и клиничких података (као код референтног лека)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садржи податке о биолошкој еквиваленцији генеричког лека у односу на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референтни лек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на основу одговарајућих студија биолошке расположив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За ГЕНЕРИЧКИ ХИБРИДНИ и БИОЛОШКИ СЛИЧАН ЛЕК подносе се сопствени претклинички и клинички подаци, и то подаци о ефикасности и безбедности који се разликују од референтног 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Издавање дозволе за лек по убрзаном поступк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а лек који је од највишег интереса за заштиту здравља становништва, а пр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вега у односу на терапијске инов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а лек који је већ добио дозволу по централизованом поступк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у ЕУ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У захтеву за издавање дозволе морају да буду наведени сви разлози који се односе н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заштиту здравља становништв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уз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дговарајућ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документац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озвола за лек по убрзаном поступку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издаје се н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 г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од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Условна дозвола за л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а лекове који се користе за лечење, превенцију или дијагностиковање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озбиљних и по живот опасних обољењ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лекове који се користе у хитним случајевим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 лекове који се користе за лечење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ретких болест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За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лекове који су добили дозволу по централизованом поступку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(ЕУ), као и за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друге лекове од већег</a:t>
            </a: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omic Sans MS"/>
              </a:rPr>
              <a:t>јавноздравственог интерес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Носилац дозволе је дужан да на сваких 6 месеци док траје условна дозвола извештава АЛИМС о безбедности л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-3380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omic Sans MS"/>
              </a:rPr>
              <a:t>АЛИМС контролише једном годишње да ли је носилац дозволе испунио услове који су тражени приликом регистрације лек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8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Дозвола под посебним околностим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Изузетно, и уз претходни договор са предлагачем,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може да изда дозволу за лек под посебним околностима -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за лек од посебног јавноздравственог интере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звола се издај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на 12 месец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уз обавезу предлагача да испуни обавезе који се односе на безбедност лека и да обавештава Агенцију 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ваком нежељеном догађају приликом употребе лека, као и о предузетим безбедносним мер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може да продужава дозволу за лек под посебним околностима на нових 12 месеци све док постоји посебан јавноздравствени интерес з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им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лек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Comic Sans MS"/>
              </a:rPr>
              <a:t>Садржај дозволе за л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Comic Sans MS"/>
              </a:rPr>
              <a:t>Правилник о садржају дозволе за стављање лека у промет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Сл. гласник РС", бр. 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30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/20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1) Врста дозвол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2) Врста л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3) Врста поступка за добијање дозвол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а) Са потпуном документ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б)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Са скраћеном документациј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Саставни део дозволе за л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С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ажетак карактеристика лека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SPC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8132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јважније и најтачније информације о леку, намењене стручним лиц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путство за лек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PIL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8132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Намењено пацијенту, мора бити написано стилом и језиком који лаик може разуме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екст за унутрашње и спољње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пакова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81320" indent="-5972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саглашен са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SPC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P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Форма и садржина свих ових докумената мора бити усклађена са одговарајућом смерницом ЕМ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 algn="ct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генција за лекове и медицинска сре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издаје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дозволе за лек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одлучује о измени и допуни, обнови и преносу, као и престанку важења дозвол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2) врши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упис мед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 средства у Регистар 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одлучује о измени и допуни, обнови уписа, као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и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брисању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из Регистр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3) врши упис у Регистар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традиционалних биљних леко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односно упис у Регистар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хомеопатских леко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4) издаје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дозволе за спровођење клиничког испитивања 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Л и 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одлучује о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измени и допуни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дозвол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односно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протокол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о спровођењу клиничког испитивања лекова, доноси одлуке у вези с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пријавом клиничког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испитивањ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врши контролу спровођењ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клиничког испитивањ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Одбијање захтева за издавање дозволе за л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да однос између ризика и користи није повољан при уобичајеним условима примен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aда лек нема терапијско дејство или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да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но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није довољно доказано од предлагач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да квалитативни и квантитативни састав лека не одговара подацима из приложене документ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да документација није у складу са условима прописаним законом и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равилници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Лекови за које се не издаје дозвола за л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агистрал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леков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Г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аленск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леков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ктивне супстанце које се користе у производњи лек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еков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намење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испитивању у току истраживања и разво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олупроизвод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намење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даљој обрад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у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крв, плазм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или крвне ћелије људскога порекла, осим крвне плазме која је произведена индустријским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поступ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Р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адионуклид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затвореног извора зрачењ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Лекови за које се не издаје дозвола за л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20560" indent="-520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еко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за напредну терапију који се припремају за појединог пацијента у току његовог леч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радиционал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биљ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леко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осим ако законом није друкчије одређе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Х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омеопатск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леко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осим ако законом није друкчије одређено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еђупроизвод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намењен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за даљу обра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еков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које производе произвођачи који су од надлежног министарства добили дозволу за производњу, на основу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уговорне производње, а који нису намењени за стављање у промет у Срб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-520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руге лекове које одреди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у складу са зак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0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000" spc="-1" strike="noStrike">
                <a:solidFill>
                  <a:srgbClr val="000000"/>
                </a:solidFill>
                <a:latin typeface="Comic Sans MS"/>
              </a:rPr>
              <a:t>* Ако не испуњавају услове за упис у регистар, већ се морају третирати као лекови у смислу издавања дозв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Измене и допуне дозволе за л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Носилац дозволе за лек дужан је да стално извештава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о свим новим налазима о оцени квалитета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безбедности и ефикасности лека у промет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Носилац дозволе за лек може поднети захтев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ЛИМС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за измену или допуну дозволе за лек (варија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Носилац дозволе за лек дужан је да најкасније 12 месеци од дана достављања акта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о одобрењу варијациј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усти у промет лек у складу с одобреном варијациј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Обнова дозволе за л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озвола за лек се обнавља пошто истекне рок 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година на који је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он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издата, а на основу поновне процен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односа између ризика и кори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Захтев се подноси АЛИМС најраније 180 дана, а најкасније 90 дана пре истека рока важности дозв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Уз захтев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остављ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се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окументациј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са експертски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извештајима о квалитету, безбедности и ефикасности лек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као и 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исак за све варијац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је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о дана подношења захтева за обнову дозв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осилац дозволе за лек дужан је да у року до 12 месеци од дана достављања одлуке о обнови дозволе пусти у промет лек у складу са одлуком о обнови дозвол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536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Издавање дозволе за лек на неограничено врем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Ако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утврди да је лек који је добио дозволу безбедан, на основу података о фармаковигиланци у периоду од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година од дана издавања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односно обнове дозвол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, може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изд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т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дозволу на неограничено вре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У супротном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АЛИМС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одбиј</a:t>
            </a:r>
            <a:r>
              <a:rPr b="0" lang="sr-RS" sz="24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захтев за издавање дозволе за лек на неограничено време, и у том случају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одлучује о обнов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озволе на пет годин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само једно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Дозвола издата на неограничено време може се и укинути ако АЛИМС у периоду по њеном издавању утврди да лек није безбедан по здравље и живот љ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Престанак важења дозволе за ле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ко А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ЛИМС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утврд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а је лек штетан при уобичајеним условима прим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а лек нема терапијску ефикаснос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а однос ризика и користи није повољан при уобичајеним условима приме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а квалитативни или квантитативни састав лека не одговара декларисаном саста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а је дозвола за лек издата на основу непотпуних и неистинитих података, односно ако подаци нису измењени 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опуњени у складу са закон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да носилац дозволе за лек више не испуњава прописане усл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Други случајеви у којима преста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је д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важ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дозвол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за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ле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Ако АЛИМС утврди д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ек није био у промету у Републици Србији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године од дана издавања дозволе за 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ек који је, после издавања дозволе за лек, био одређени период у промету у Републици Србији, а након тог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ериода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узастопне године није био у промету у Републици Срб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Надлежно министарство може, ради заштите здравља грађана, да предложи А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да не донес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одлуку о престанку важења дозволе за 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Лек коме је истекла дозвол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ек коме је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истекла дозвола за лек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и није обновљена,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може бити у промету до истека рока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употребе лек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а најдуже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 месец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од истека рок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из дозв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Носилац дозволе за лек дужан је да 60 дана пре истека рока важности из дозволе обавести надлежно министарство и 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да неће покренути поступак за обнову дозвол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Привремена дозвола за ле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У случају епидемије, елементарне непогоде, односно ванредног стања, на основу захтева министарств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здравља, 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може да изда привремену дозволу за лек за одређену врсту и количину лекова и пр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него што се стекну услови за издавање дозволе за лек у складу са овим закон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Привремена дозвола за лек издаје се за период док трај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поменуте ванредне окол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генција за лекове и медицинска сре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5) прати нежељене реакције на лекове (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фармаковигиланц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),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вигиланца 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6) издаје уверења за потребе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извоз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 и 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у складу с препорукам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З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7) одобрава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увоз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 и 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за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лечење одређеног пацијента или групе пацијенат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као и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 и 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за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научна и медицинска истражив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8) врши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категоризацију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 и М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9) одобрава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оглашавање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 и М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10) врши прикупљање и обраду података о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промету и потрошњи </a:t>
            </a:r>
            <a:r>
              <a:rPr b="1" lang="sr-CS" sz="2000" spc="-1" strike="noStrike">
                <a:solidFill>
                  <a:srgbClr val="000000"/>
                </a:solidFill>
                <a:latin typeface="Comic Sans MS"/>
              </a:rPr>
              <a:t>Л и М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11) даје информације и предлоге за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рационално коришћењ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 и М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omic Sans MS"/>
              </a:rPr>
              <a:t>Класификација леко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 у поступку издавања дозволе за лек врши класификацију лекова, односно одређује режим издавања лекова,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и то ка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екови који се издају уз лекарски рецеп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екови који се издају без лекарског рецеп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Лекови који се издају искључиво уз лекарски рецеп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остоји велика вероватноћа да ће употреба лека без лекарског надзора представљати опаснос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по здравље људ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чак и при правилној примени л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е често и у великој мери користи неправилно, па због тога може представљати директну или индиректну опасност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по здравље љ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адржи супстанце или препарате израђене од тих супстанци чије дејство, односно нежељене реакције захтевају додатно истраживањ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Ако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је лек 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амењен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за парентералну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Поткатегорије лекова који се издају </a:t>
            </a: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само</a:t>
            </a:r>
            <a:r>
              <a:rPr b="0" lang="sr-Latn-CS" sz="3600" spc="-1" strike="noStrike">
                <a:solidFill>
                  <a:srgbClr val="000000"/>
                </a:solidFill>
                <a:latin typeface="Comic Sans MS"/>
              </a:rPr>
              <a:t> уз лекарски рецеп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3059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93840" indent="-39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екови за вишекратно и </a:t>
            </a: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1-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кратно изда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екови који се издају уз посебан лекарски рецеп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-3938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Л</a:t>
            </a:r>
            <a:r>
              <a:rPr b="0" lang="sr-Latn-CS" sz="3200" spc="-1" strike="noStrike">
                <a:solidFill>
                  <a:srgbClr val="000000"/>
                </a:solidFill>
                <a:latin typeface="Comic Sans MS"/>
              </a:rPr>
              <a:t>екови који се издају уз ограничење за примену у одређеним специјализованим области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93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000" spc="-1" strike="noStrike">
                <a:solidFill>
                  <a:srgbClr val="000000"/>
                </a:solidFill>
                <a:latin typeface="Comic Sans MS"/>
              </a:rPr>
              <a:t>Лекови који се издају без лекарског рецеп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Лекови који имају малу токсично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кови који имај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велику терапијску ширин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кови који су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безбед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у предозирањ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кови с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минималн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м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интеракциј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Лекови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чије су индикације добро познате пацијенту, односно кориснику и који служе за самолечењ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Обавезе ноциоца дозволе у домену ф</a:t>
            </a:r>
            <a:r>
              <a:rPr b="0" lang="sr-CS" sz="4000" spc="-1" strike="noStrike">
                <a:solidFill>
                  <a:srgbClr val="000000"/>
                </a:solidFill>
                <a:latin typeface="Comic Sans MS"/>
              </a:rPr>
              <a:t>армаковигиланц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О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рганизује стално праћењ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нежељених реакција на 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В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оди евиденције о свим нежељеним реакцијама на лек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(укључујући и сумње на озбиљне и неочекиване реакције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)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на које се сумња, а које су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пријављене у Србији, земљама Е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У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или у некој трећој земљи, као и да их по правилу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прослеђује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А</a:t>
            </a:r>
            <a:r>
              <a:rPr b="1" lang="sr-RS" sz="2800" spc="-1" strike="noStrike">
                <a:solidFill>
                  <a:srgbClr val="000000"/>
                </a:solidFill>
                <a:latin typeface="Comic Sans MS"/>
              </a:rPr>
              <a:t>ЛИМ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Обезбеђује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све информације које се дају о фармаковигиланци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одређеног лека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буду приказане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објективно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и да </a:t>
            </a:r>
            <a:r>
              <a:rPr b="1" lang="sr-Latn-CS" sz="2800" spc="-1" strike="noStrike">
                <a:solidFill>
                  <a:srgbClr val="000000"/>
                </a:solidFill>
                <a:latin typeface="Comic Sans MS"/>
              </a:rPr>
              <a:t>не доводе у заблуд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SUR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Периодични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(ажурирани)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извештај о безбедности л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окумент који садржи све важне информације о претходном постмаркетиншком искуству са ле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бавезно садржи стручну процену односа ризика и користи одређеног лека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односилац захтева/Носилац дозволе за лек доставља АЛИМС: условно приликом регистрације, а обавезно након издавања дозволе за 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PS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568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Израда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SUR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документа заснива се на подацима из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понтаних пријава НР, резултатима клиничких и неклиничких студија, подацима из медицинских регистара или база података о НР, приказима случајева и др. релевантним изворима у </a:t>
            </a:r>
            <a:r>
              <a:rPr b="0" i="1" lang="sr-CS" sz="2800" spc="-1" strike="noStrike">
                <a:solidFill>
                  <a:srgbClr val="000000"/>
                </a:solidFill>
                <a:latin typeface="Comic Sans MS"/>
              </a:rPr>
              <a:t>Србији, ЕУ или другим земља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Садржи и информације о укупној изложености пацијената леку током опсервираног послемаркетиншког периода, као и преглед мера и активности предузетих из безбедносних разлог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4000" spc="-1" strike="noStrike">
                <a:solidFill>
                  <a:srgbClr val="000000"/>
                </a:solidFill>
                <a:latin typeface="Comic Sans MS"/>
              </a:rPr>
              <a:t>План управљања ризиком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en-US" sz="4000" spc="-1" strike="noStrike">
                <a:solidFill>
                  <a:srgbClr val="000000"/>
                </a:solidFill>
                <a:latin typeface="Comic Sans MS"/>
              </a:rPr>
              <a:t>RMP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Обавеза носиоца дозволе за лек и саставни део регистрационе документације (дозвол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Циљ: смањење ризика од озбиљних неочекиваних нежељених реакциј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адржи детаљан приказ мера/активности (система) за регулисање ризика које носилац спроводи по стављању лека у промет, односно после испољавања озбиљних </a:t>
            </a:r>
            <a:r>
              <a:rPr b="0" lang="sr-RS" sz="2800" spc="-1" strike="noStrike">
                <a:solidFill>
                  <a:srgbClr val="000000"/>
                </a:solidFill>
                <a:latin typeface="Comic Sans MS"/>
              </a:rPr>
              <a:t>НД </a:t>
            </a: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ји прате примену таквог лека у прак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R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Идентификација и кaрaктеризација ризика 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Risk Identification and Characterisat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цена и праћење ризик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(Risk Monitor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Минимализација ризик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Risk Minimizat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Комуникација везана за сузбијање ризика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 (</a:t>
            </a:r>
            <a:r>
              <a:rPr b="0" i="1" lang="sr-Latn-CS" sz="2800" spc="-1" strike="noStrike">
                <a:solidFill>
                  <a:srgbClr val="000000"/>
                </a:solidFill>
                <a:latin typeface="Comic Sans MS"/>
              </a:rPr>
              <a:t>Risk Communication</a:t>
            </a:r>
            <a:r>
              <a:rPr b="0" lang="sr-Latn-CS" sz="28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Comic Sans MS"/>
              </a:rPr>
              <a:t>RM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-711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. Планирање фармаковигилан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Спецификациј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422360" indent="-507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ретклинички и клинички налази о безбед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2360" indent="-507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недостаци претходних испит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22360" indent="-507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потенцијалне ризичне груп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лан спровођења фармаковигиланце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(рутинске и додатне постмаркетиншке активности – акциони пла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omic Sans MS"/>
              </a:rPr>
              <a:t>Б. Спречавање риз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роцена потреба за спречавањем р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0666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AutoNum type="arabicPeriod" startAt="3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Comic Sans MS"/>
              </a:rPr>
              <a:t>План минимизирања риз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>
                <a:solidFill>
                  <a:srgbClr val="000000"/>
                </a:solidFill>
                <a:latin typeface="Comic Sans MS"/>
              </a:rPr>
              <a:t>Агенција за лекове и медицинска сред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30592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12) повезује се са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међународним мрежама информација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о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 и 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и са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агенцијама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надлежним за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 и 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и њиховим асоцијација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13) учествује у планирању и спровођењу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систематске контрол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 и 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и узимању случајних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узорака из проме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14) даје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мишљења за увоз и извоз узорака ћелиј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, односно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ткив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за поступак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клиничког испитивања лековим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15) врши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контролу квалитет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Л и МС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16) припрема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стручне публикације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из 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своје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надлежн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17) врши и друге послове, у складу са зако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Лекови - врсте ле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81960" indent="-381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Лек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је производ који се ставља у промет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у одређеној јачини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фармацеутском облик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и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паковању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а који садржи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супстанцу или комбинацију супстанци за коју се показало да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има својство да лечи или спречава болести код људи,</a:t>
            </a: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односно животињ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, као и супстанцу или комбинацију супстанци која се може користити или примењивати на људима,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односно животињама, било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са намером да се поново успостави, побољша или измени физиолошка функциј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 путем</a:t>
            </a:r>
            <a:r>
              <a:rPr b="0" lang="sr-C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фармаколошког, имунолошког или метаболичког дејства или </a:t>
            </a:r>
            <a:r>
              <a:rPr b="1" lang="sr-Latn-CS" sz="2400" spc="-1" strike="noStrike">
                <a:solidFill>
                  <a:srgbClr val="000000"/>
                </a:solidFill>
                <a:latin typeface="Comic Sans MS"/>
              </a:rPr>
              <a:t>да се постави медицинска дијагноза</a:t>
            </a:r>
            <a:r>
              <a:rPr b="0" lang="sr-Latn-CS" sz="24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1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Лекови - врсте ле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920" y="236196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Супстанц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је свака материја, без обзира на порекло, која може би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1)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хуманог порекл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(крв и производи из крв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2)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животињског порекл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(микроорганизми, целе животиње, делови органа, животињски секрети, токсини, екстракти,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производи из крв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3)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биљног порекл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(микроорганизми, целе биљке, делови биљака, биљни секрети, екстракт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4)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хемијског порекл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(хемијски елементи, хемијске супстанце које се у природи налазе у датом облику, као и хемијски</a:t>
            </a:r>
            <a:r>
              <a:rPr b="0" lang="sr-C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производи добијени хемијском променом или синтезо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Крв и компоненте крви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 намењене трансфузији </a:t>
            </a:r>
            <a:r>
              <a:rPr b="1" lang="sr-Latn-CS" sz="2000" spc="-1" strike="noStrike">
                <a:solidFill>
                  <a:srgbClr val="000000"/>
                </a:solidFill>
                <a:latin typeface="Comic Sans MS"/>
              </a:rPr>
              <a:t>не сматрају се леком у смислу овог закона</a:t>
            </a:r>
            <a:r>
              <a:rPr b="0" lang="sr-Latn-CS" sz="2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000000"/>
                </a:solidFill>
                <a:latin typeface="Comic Sans MS"/>
              </a:rPr>
              <a:t>Лекови - врсте леков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Биолошки 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Имунолошки л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екови за напредну терапиј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omic Sans MS"/>
              </a:rPr>
              <a:t>Лекови из крви и крвне плазм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Радиофармацеутиц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Биљни 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Традиционални лек и</a:t>
            </a:r>
            <a:r>
              <a:rPr b="0" lang="sr-CS" sz="2800" spc="-1" strike="noStrike">
                <a:solidFill>
                  <a:srgbClr val="000066"/>
                </a:solidFill>
                <a:latin typeface="Comic Sans MS"/>
              </a:rPr>
              <a:t>                   </a:t>
            </a: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традиционални биљни 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Хомеопатски 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Comic Sans MS"/>
              </a:rPr>
              <a:t>Ветеринарски ле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23:00:46Z</dcterms:created>
  <dc:creator>Srdjan Stefanovic</dc:creator>
  <dc:description/>
  <dc:language>en-US</dc:language>
  <cp:lastModifiedBy>User</cp:lastModifiedBy>
  <dcterms:modified xsi:type="dcterms:W3CDTF">2021-02-07T13:37:02Z</dcterms:modified>
  <cp:revision>277</cp:revision>
  <dc:subject/>
  <dc:title>Професионални стандарди за обављање фармацеутске делатности: стандарди добре апотекарске праксе</dc:title>
</cp:coreProperties>
</file>